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5B3-7947-489B-8298-32521F33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5F3-B5A1-42FE-AFFF-CE7ADA2E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A75-2C8E-4749-A9F6-F0EBF03E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A10-E65F-46FD-9FE4-8B189E57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DE3A-5E03-45D4-889E-556DA96C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8BA2-F13E-4F9E-8463-DB72CD27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F430-EC09-4F22-8650-5A2F4668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9571-8125-4AD3-A644-7F99BDD1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E133-C2E0-4DBD-9A87-576A8A7D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263F-156A-4907-96EF-FBAD5D50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76CD-934B-4FA4-BE0D-CB177DA7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BFD-29F5-4C86-9910-2F65132F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E625-0945-4498-9CE3-E6F5AA1C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2F4B-4458-49B1-BFDD-311C0ACA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3BBB-937F-4A5E-B17D-7ACA21CD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23A1-6202-4895-9958-DE145530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7464-FD2D-47FF-B710-2DB74C92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28089-E58A-42F5-90DB-AD4958E6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9C2B-80C8-438F-9127-77F49F14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BE133-E399-461B-8E10-BC934320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BC8F3-5058-423F-81AF-CF164E9B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50AE-648E-4329-A913-A01DB427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55C-E200-495C-BEAD-2024D3EC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E5E52-6EC5-45E3-A701-255698D3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F020D-70F9-43BC-972C-28AC34B0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94187-CF0B-4E34-8AF1-CDE46CF5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78498-ED9C-4742-B944-888C0F5C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5A424-82A6-4135-AEC7-38FE7560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46510-CA01-46FA-B92C-E0120A6B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5F594-3C61-427F-BB75-BE176CBB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DD1C9-D225-49B9-8AB8-D9053A19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CA540-4E10-4EAA-99C6-A8F796AA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A6172-3432-4BBE-B67C-CA5952DE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287-8C9E-46B6-A55A-1BD3FF6D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0AF52-08EC-4F97-9754-57EBB8D9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1117D-DC70-46A9-80D0-55F9B260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82807-70B1-4C85-B233-2090953C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02E4D-874E-42BC-A940-763A787C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3B597-2029-4852-B233-05DD6BFB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824C7-1A58-4261-BF8C-E70D0213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53F95-2C7E-45DE-81F1-AEDFA69A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C283E-5963-4505-9D22-ADCB10E2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16CEF-6FF5-44AC-B4E1-0E34317F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0CF07-4481-4E54-B363-995E9A95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10E-FFD2-421F-BCAB-408DB554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2F862-70E6-4FE4-84A0-391C5C0C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EFE89-B925-4A99-B58D-F1ED8FE7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F3DD2-73BB-4330-BB96-BA4150AB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FF054-759C-4047-8F06-8CE35F2D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63692-DC52-4444-9F48-E2A88089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CE4C9-907F-4868-BF88-EF38C1E8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6F4FB-62C1-4287-8F42-61CD9878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366DB-54E1-4BE5-9D85-714E521B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613AE-6CD0-441A-A314-BDA31D01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C50F8-F8A6-4E2A-BD37-99BF5545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413-3E8C-4EE3-B46E-5D251E97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70B7E-CF28-4514-AE88-190EA09E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430-E496-40E5-9FD4-EB421CFA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7D7-8B3D-4F7A-A3E0-ED148F7F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615-6AF7-4403-8F1D-E0599626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B965E-CA3F-468E-ADE4-A2C7F5AFD3CE}" type="slidenum">
              <a:rPr b="0" lang="ru-RU" sz="10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565200" y="744120"/>
            <a:ext cx="8005680" cy="5350320"/>
            <a:chOff x="565200" y="744120"/>
            <a:chExt cx="8005680" cy="5350320"/>
          </a:xfrm>
        </p:grpSpPr>
        <p:sp>
          <p:nvSpPr>
            <p:cNvPr id="44" name="Freeform 6"/>
            <p:cNvSpPr/>
            <p:nvPr/>
          </p:nvSpPr>
          <p:spPr>
            <a:xfrm>
              <a:off x="6114600" y="1685520"/>
              <a:ext cx="245628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 flipH="1" flipV="1">
              <a:off x="564840" y="743760"/>
              <a:ext cx="245664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6484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8459B-20D5-452F-9881-874C88C6E9DD}" type="slidenum">
              <a:rPr b="0" lang="ru-RU" sz="10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eece1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eece1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eece1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eece1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eece1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eece1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eece1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eece1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eece1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eece1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eece1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eece1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54040" y="6453360"/>
            <a:ext cx="121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D157F-F601-48D7-80A8-931CA8F31963}" type="slidenum">
              <a:rPr b="0" lang="ru-RU" sz="10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34D9B-CA62-4463-B5CF-21D6C142C976}" type="slidenum">
              <a:rPr b="0" lang="ru-RU" sz="10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5CB85-C8EF-467B-BEF2-DD7FB261D652}" type="slidenum">
              <a:rPr b="0" lang="ru-RU" sz="10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tvoedelompr.ru/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4" descr=""/>
          <p:cNvPicPr/>
          <p:nvPr/>
        </p:nvPicPr>
        <p:blipFill>
          <a:blip r:embed="rId1"/>
          <a:stretch/>
        </p:blipFill>
        <p:spPr>
          <a:xfrm>
            <a:off x="-20520" y="0"/>
            <a:ext cx="9931320" cy="70293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95280" y="2636640"/>
            <a:ext cx="771516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Franklin Gothic Book"/>
              </a:rPr>
              <a:t>АНО «РЕГИОНАЛЬНЫЙ ЦЕНТР УПРАВЛЕНИЯ И КУЛЬТУРЫ»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20" name="Рисунок 6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2073240" cy="1278000"/>
          </a:xfrm>
          <a:prstGeom prst="rect">
            <a:avLst/>
          </a:prstGeom>
          <a:ln w="0">
            <a:noFill/>
          </a:ln>
        </p:spPr>
      </p:pic>
      <p:sp>
        <p:nvSpPr>
          <p:cNvPr id="221" name="Заголовок 1"/>
          <p:cNvSpPr/>
          <p:nvPr/>
        </p:nvSpPr>
        <p:spPr>
          <a:xfrm>
            <a:off x="2195640" y="5661000"/>
            <a:ext cx="5976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Franklin Gothic Book"/>
              </a:rPr>
              <a:t>ТАМБОВСКАЯ ОБЛАСТЬ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2" name="Picture 2" descr="\\ad2\public\33. РЦУК\ЛОГО 85 ТО\IMG-20220418-WA0001.jpg"/>
          <p:cNvPicPr/>
          <p:nvPr/>
        </p:nvPicPr>
        <p:blipFill>
          <a:blip r:embed="rId3"/>
          <a:stretch/>
        </p:blipFill>
        <p:spPr>
          <a:xfrm>
            <a:off x="5940360" y="5251320"/>
            <a:ext cx="1656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7800" y="5805360"/>
            <a:ext cx="7988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Franklin Gothic Book"/>
              </a:rPr>
              <a:t>Меры поддержки Центра для МСП и самозанятых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5" name="Freeform: Shape 9"/>
          <p:cNvSpPr/>
          <p:nvPr/>
        </p:nvSpPr>
        <p:spPr>
          <a:xfrm flipH="1" rot="5400000">
            <a:off x="1077480" y="-370080"/>
            <a:ext cx="1757520" cy="3306960"/>
          </a:xfrm>
          <a:custGeom>
            <a:avLst/>
            <a:gdLst/>
            <a:ahLst/>
            <a:rect l="l" t="t" r="r" b="b"/>
            <a:pathLst>
              <a:path w="1756584" h="4408488">
                <a:moveTo>
                  <a:pt x="1756584" y="4408488"/>
                </a:moveTo>
                <a:lnTo>
                  <a:pt x="1756584" y="0"/>
                </a:lnTo>
                <a:lnTo>
                  <a:pt x="1350810" y="0"/>
                </a:lnTo>
                <a:lnTo>
                  <a:pt x="1350810" y="4024068"/>
                </a:lnTo>
                <a:lnTo>
                  <a:pt x="0" y="4023445"/>
                </a:lnTo>
                <a:lnTo>
                  <a:pt x="0" y="4408488"/>
                </a:lnTo>
                <a:lnTo>
                  <a:pt x="1756584" y="4408488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57240" y="1490760"/>
            <a:ext cx="7229520" cy="44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Franklin Gothic Book"/>
              </a:rPr>
              <a:t>Консультации по юридическим, бухгалтерским, трудовым, маркетинговым и иным вопросам.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Franklin Gothic Book"/>
              </a:rPr>
              <a:t>Обучение на семинарах, тренингах, обучающих программах.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Franklin Gothic Book"/>
              </a:rPr>
              <a:t>Участие в Конференциях, Форумах со спикерами из разных регионов России и Тамбовской области.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Franklin Gothic Book"/>
              </a:rPr>
              <a:t>Участие в выставках и Фестивалях, как в Тамбовской области, так и в выставках на территории России.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Franklin Gothic Book"/>
              </a:rPr>
              <a:t>Участие в конкурсах.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Franklin Gothic Book"/>
              </a:rPr>
              <a:t>Содействие в популяризации продукции.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Franklin Gothic Book"/>
              </a:rPr>
              <a:t>Специальная оценка условий труда.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Рисунок 10"/>
          <p:cNvSpPr/>
          <p:nvPr/>
        </p:nvSpPr>
        <p:spPr>
          <a:xfrm>
            <a:off x="7020000" y="406440"/>
            <a:ext cx="18208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Рисунок 12"/>
          <p:cNvSpPr/>
          <p:nvPr/>
        </p:nvSpPr>
        <p:spPr>
          <a:xfrm>
            <a:off x="4948200" y="404640"/>
            <a:ext cx="20718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icture 2"/>
          <p:cNvSpPr/>
          <p:nvPr/>
        </p:nvSpPr>
        <p:spPr>
          <a:xfrm>
            <a:off x="3878280" y="404640"/>
            <a:ext cx="10699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1" name="Рисунок 10" descr=""/>
          <p:cNvPicPr/>
          <p:nvPr/>
        </p:nvPicPr>
        <p:blipFill>
          <a:blip r:embed="rId1"/>
          <a:srcRect l="0" t="11172" r="0" b="0"/>
          <a:stretch/>
        </p:blipFill>
        <p:spPr>
          <a:xfrm>
            <a:off x="5678640" y="422280"/>
            <a:ext cx="1476360" cy="879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4811760" y="422280"/>
            <a:ext cx="866880" cy="879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"/>
          <p:cNvPicPr/>
          <p:nvPr/>
        </p:nvPicPr>
        <p:blipFill>
          <a:blip r:embed="rId3"/>
          <a:stretch/>
        </p:blipFill>
        <p:spPr>
          <a:xfrm>
            <a:off x="7155000" y="404640"/>
            <a:ext cx="175716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22160" y="685800"/>
            <a:ext cx="577836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1f497d"/>
                </a:solidFill>
                <a:latin typeface="Franklin Gothic Book"/>
              </a:rPr>
              <a:t>Грант по социальному предпринимательству </a:t>
            </a:r>
            <a:br>
              <a:rPr sz="3400"/>
            </a:br>
            <a:r>
              <a:rPr b="0" lang="ru-RU" sz="3400" spc="-1" strike="noStrike">
                <a:solidFill>
                  <a:srgbClr val="1f497d"/>
                </a:solidFill>
                <a:latin typeface="Franklin Gothic Book"/>
              </a:rPr>
              <a:t>от 100 до 500 тысяч рублей</a:t>
            </a:r>
            <a:endParaRPr b="0" lang="en-US" sz="3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6" name="Rectangle 20"/>
          <p:cNvSpPr/>
          <p:nvPr/>
        </p:nvSpPr>
        <p:spPr>
          <a:xfrm>
            <a:off x="0" y="0"/>
            <a:ext cx="228276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2111400" y="0"/>
            <a:ext cx="17136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627280" y="1844640"/>
            <a:ext cx="57801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71160" indent="-37116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1f497d"/>
              </a:solidFill>
              <a:latin typeface="Franklin Gothic Book"/>
            </a:endParaRPr>
          </a:p>
          <a:p>
            <a:pPr marL="371160" indent="-37116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1f497d"/>
              </a:solidFill>
              <a:latin typeface="Franklin Gothic Book"/>
            </a:endParaRPr>
          </a:p>
          <a:p>
            <a:pPr marL="371160" indent="-37116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Franklin Gothic Book"/>
              </a:rPr>
              <a:t>Быть в реестре субъектов малого и среднего предпринимательства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71160" indent="-37116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Franklin Gothic Book"/>
              </a:rPr>
              <a:t>Получить статус «социальное предприятие»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71160" indent="-37116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Franklin Gothic Book"/>
              </a:rPr>
              <a:t>Пройти обучение и получить сертификат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71160" indent="-37116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Franklin Gothic Book"/>
              </a:rPr>
              <a:t>Софинансирование 25 %</a:t>
            </a:r>
            <a:r>
              <a:rPr b="0" lang="en-US" sz="2400" spc="-1" strike="noStrike">
                <a:solidFill>
                  <a:srgbClr val="1f497d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Franklin Gothic Book"/>
              </a:rPr>
              <a:t>от стоимости проекта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71160" indent="-37116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9" name="Рисунок 19"/>
          <p:cNvSpPr/>
          <p:nvPr/>
        </p:nvSpPr>
        <p:spPr>
          <a:xfrm>
            <a:off x="2195640" y="5629320"/>
            <a:ext cx="18208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Рисунок 21"/>
          <p:cNvSpPr/>
          <p:nvPr/>
        </p:nvSpPr>
        <p:spPr>
          <a:xfrm>
            <a:off x="123840" y="5627520"/>
            <a:ext cx="20718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1" name="Picture 9" descr=""/>
          <p:cNvPicPr/>
          <p:nvPr/>
        </p:nvPicPr>
        <p:blipFill>
          <a:blip r:embed="rId1"/>
          <a:stretch/>
        </p:blipFill>
        <p:spPr>
          <a:xfrm>
            <a:off x="998640" y="5754600"/>
            <a:ext cx="3174840" cy="884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2"/>
          <a:stretch/>
        </p:blipFill>
        <p:spPr>
          <a:xfrm>
            <a:off x="123840" y="5754600"/>
            <a:ext cx="8748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22160" y="685800"/>
            <a:ext cx="577836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1f497d"/>
                </a:solidFill>
                <a:latin typeface="Franklin Gothic Book"/>
              </a:rPr>
              <a:t>Грант на молодежное предпринимательство </a:t>
            </a:r>
            <a:br>
              <a:rPr sz="3400"/>
            </a:br>
            <a:r>
              <a:rPr b="0" lang="ru-RU" sz="3400" spc="-1" strike="noStrike">
                <a:solidFill>
                  <a:srgbClr val="1f497d"/>
                </a:solidFill>
                <a:latin typeface="Franklin Gothic Book"/>
              </a:rPr>
              <a:t>от 100 до 500 тысяч рублей</a:t>
            </a:r>
            <a:endParaRPr b="0" lang="en-US" sz="3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0" y="0"/>
            <a:ext cx="228276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2111400" y="0"/>
            <a:ext cx="17136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22160" y="2025720"/>
            <a:ext cx="57783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7200" indent="-36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1f497d"/>
              </a:solidFill>
              <a:latin typeface="Franklin Gothic Book"/>
            </a:endParaRPr>
          </a:p>
          <a:p>
            <a:pPr marL="367200" indent="-36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Franklin Gothic Book"/>
              </a:rPr>
              <a:t>Возраст до 25 лет включительно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 marL="367200" indent="-36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Franklin Gothic Book"/>
              </a:rPr>
              <a:t>Зарегистрировать ИП или ООО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 marL="367200" indent="-36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Franklin Gothic Book"/>
              </a:rPr>
              <a:t>Нет долгов по налогам/взносам более 1000 рублей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 marL="367200" indent="-36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Franklin Gothic Book"/>
              </a:rPr>
              <a:t>Пройти обучение и получить сертификат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 marL="367200" indent="-36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Franklin Gothic Book"/>
              </a:rPr>
              <a:t>Софинансирование 25 % от общей стоимости проекта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 marL="367200" indent="-36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1f497d"/>
              </a:solidFill>
              <a:latin typeface="Franklin Gothic Book"/>
            </a:endParaRPr>
          </a:p>
          <a:p>
            <a:pPr marL="367200" indent="-36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f497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Рисунок 6"/>
          <p:cNvSpPr/>
          <p:nvPr/>
        </p:nvSpPr>
        <p:spPr>
          <a:xfrm>
            <a:off x="2195640" y="5629320"/>
            <a:ext cx="18208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Рисунок 8"/>
          <p:cNvSpPr/>
          <p:nvPr/>
        </p:nvSpPr>
        <p:spPr>
          <a:xfrm>
            <a:off x="123840" y="5627520"/>
            <a:ext cx="20718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0" name="Picture 10" descr=""/>
          <p:cNvPicPr/>
          <p:nvPr/>
        </p:nvPicPr>
        <p:blipFill>
          <a:blip r:embed="rId1"/>
          <a:stretch/>
        </p:blipFill>
        <p:spPr>
          <a:xfrm>
            <a:off x="173160" y="5830920"/>
            <a:ext cx="4047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28880" y="260280"/>
            <a:ext cx="7200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Franklin Gothic Book"/>
              </a:rPr>
              <a:t>Конкурс «Лучший социальный проект года»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157400" y="1989000"/>
            <a:ext cx="6151320" cy="4302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7308720" y="40464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28880" y="333000"/>
            <a:ext cx="720072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Franklin Gothic Book"/>
              </a:rPr>
              <a:t>Конкурс «Молодой предприниматель России»</a:t>
            </a:r>
            <a:br>
              <a:rPr sz="3600"/>
            </a:br>
            <a:r>
              <a:rPr b="0" lang="en-US" sz="3600" spc="-1" strike="noStrike" u="sng">
                <a:solidFill>
                  <a:srgbClr val="0000ff"/>
                </a:solidFill>
                <a:uFillTx/>
                <a:latin typeface="Franklin Gothic Book"/>
                <a:hlinkClick r:id="rId1"/>
              </a:rPr>
              <a:t>https://tvoedelompr.ru</a:t>
            </a:r>
            <a:br>
              <a:rPr sz="3600"/>
            </a:b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55" name="Picture 2" descr="C:\Users\user\Desktop\2022-10-06_11-03-25.png"/>
          <p:cNvPicPr/>
          <p:nvPr/>
        </p:nvPicPr>
        <p:blipFill>
          <a:blip r:embed="rId2"/>
          <a:stretch/>
        </p:blipFill>
        <p:spPr>
          <a:xfrm>
            <a:off x="797040" y="1811160"/>
            <a:ext cx="7951680" cy="48484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7308720" y="2937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28880" y="18864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Franklin Gothic Book"/>
              </a:rPr>
              <a:t>Каталог для самозанятых</a:t>
            </a: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58" name="Picture 2" descr="\\ad2\public\4.Степанова Е.А\ТИБИ\бухгалтерия 2022\2022-11-15_09-32-09.png"/>
          <p:cNvPicPr/>
          <p:nvPr/>
        </p:nvPicPr>
        <p:blipFill>
          <a:blip r:embed="rId1"/>
          <a:stretch/>
        </p:blipFill>
        <p:spPr>
          <a:xfrm>
            <a:off x="971640" y="1000080"/>
            <a:ext cx="3816360" cy="545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\\ad2\public\4.Степанова Е.А\ТИБИ\бухгалтерия 2022\2022-11-15_09-32-43.png"/>
          <p:cNvPicPr/>
          <p:nvPr/>
        </p:nvPicPr>
        <p:blipFill>
          <a:blip r:embed="rId2"/>
          <a:stretch/>
        </p:blipFill>
        <p:spPr>
          <a:xfrm>
            <a:off x="5043600" y="981000"/>
            <a:ext cx="38275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28880" y="259920"/>
            <a:ext cx="7200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Franklin Gothic Book"/>
              </a:rPr>
              <a:t>Каталог для самозанятых</a:t>
            </a: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61" name="Picture 2" descr="\\ad2\public\4.Степанова Е.А\ТИБИ\бухгалтерия 2022\2022-11-15_09-35-18.png"/>
          <p:cNvPicPr/>
          <p:nvPr/>
        </p:nvPicPr>
        <p:blipFill>
          <a:blip r:embed="rId1"/>
          <a:stretch/>
        </p:blipFill>
        <p:spPr>
          <a:xfrm>
            <a:off x="971640" y="1052640"/>
            <a:ext cx="3816360" cy="54403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\\ad2\public\4.Степанова Е.А\ТИБИ\бухгалтерия 2022\2022-11-15_09-35-46.png"/>
          <p:cNvPicPr/>
          <p:nvPr/>
        </p:nvPicPr>
        <p:blipFill>
          <a:blip r:embed="rId2"/>
          <a:stretch/>
        </p:blipFill>
        <p:spPr>
          <a:xfrm>
            <a:off x="5076720" y="1052640"/>
            <a:ext cx="3818160" cy="54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931320" cy="70293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043000"/>
            <a:ext cx="4968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Franklin Gothic Book"/>
              </a:rPr>
              <a:t>Контакты: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193840" y="2943360"/>
            <a:ext cx="6554880" cy="26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Franklin Gothic Book"/>
              </a:rPr>
              <a:t>г. Тамбов, ул. Кавалерийская, 7 «а», 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Franklin Gothic Book"/>
              </a:rPr>
              <a:t>Тамбовский инновационный бизнес-инкубатор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      </a:t>
            </a: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89092327667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Franklin Gothic Book"/>
              </a:rPr>
              <a:t>E-mail</a:t>
            </a:r>
            <a:r>
              <a:rPr b="0" lang="ru-RU" sz="2400" spc="-1" strike="noStrike">
                <a:solidFill>
                  <a:srgbClr val="1f497d"/>
                </a:solidFill>
                <a:latin typeface="Franklin Gothic Book"/>
              </a:rPr>
              <a:t>: </a:t>
            </a:r>
            <a:r>
              <a:rPr b="0" lang="en-US" sz="2400" spc="-1" strike="noStrike">
                <a:solidFill>
                  <a:srgbClr val="1f497d"/>
                </a:solidFill>
                <a:latin typeface="Franklin Gothic Book"/>
              </a:rPr>
              <a:t>eastepanova.tmb@gmail.com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66" name="Рисунок 6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2073240" cy="1278000"/>
          </a:xfrm>
          <a:prstGeom prst="rect">
            <a:avLst/>
          </a:prstGeom>
          <a:ln w="0">
            <a:noFill/>
          </a:ln>
        </p:spPr>
      </p:pic>
      <p:sp>
        <p:nvSpPr>
          <p:cNvPr id="267" name="Заголовок 1"/>
          <p:cNvSpPr/>
          <p:nvPr/>
        </p:nvSpPr>
        <p:spPr>
          <a:xfrm>
            <a:off x="2195640" y="5661000"/>
            <a:ext cx="5976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Franklin Gothic Book"/>
              </a:rPr>
              <a:t>ТАМБОВСКАЯ ОБЛАСТЬ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Заголовок 1"/>
          <p:cNvSpPr/>
          <p:nvPr/>
        </p:nvSpPr>
        <p:spPr>
          <a:xfrm>
            <a:off x="2585880" y="463680"/>
            <a:ext cx="5195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9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Franklin Gothic Book"/>
                <a:ea typeface="Arial"/>
              </a:rPr>
              <a:t>АНО «Региональный центр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lnSpc>
                <a:spcPct val="89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Franklin Gothic Book"/>
                <a:ea typeface="Arial"/>
              </a:rPr>
              <a:t>управления и культуры»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9" name="Рисунок 9" descr=""/>
          <p:cNvPicPr/>
          <p:nvPr/>
        </p:nvPicPr>
        <p:blipFill>
          <a:blip r:embed="rId3"/>
          <a:stretch/>
        </p:blipFill>
        <p:spPr>
          <a:xfrm>
            <a:off x="2208240" y="3914640"/>
            <a:ext cx="635040" cy="6368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4"/>
          <a:stretch/>
        </p:blipFill>
        <p:spPr>
          <a:xfrm>
            <a:off x="6012000" y="5329080"/>
            <a:ext cx="1584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3T08:14:44Z</dcterms:created>
  <dc:creator>Яковлева Еоена Александровна</dc:creator>
  <dc:description/>
  <dc:language>en-US</dc:language>
  <cp:lastModifiedBy>Пользователь</cp:lastModifiedBy>
  <cp:lastPrinted>2022-10-06T09:55:46Z</cp:lastPrinted>
  <dcterms:modified xsi:type="dcterms:W3CDTF">2022-11-15T07:16:35Z</dcterms:modified>
  <cp:revision>31</cp:revision>
  <dc:subject/>
  <dc:title>АНО «Региональный центр управления и культуры»</dc:title>
</cp:coreProperties>
</file>